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489-8951-4ECB-A13E-2A5813D4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5F9-764B-408D-A310-3910D1E3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968-4914-4954-B114-41235640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AE9-5D84-4AD0-BE08-D8E2CD52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5939-711F-4047-B4EB-182B719D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3E62-B79A-4FD2-8C0C-B0644D1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91F4-8CAC-49D9-8CF0-62CC584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1052-439F-4D07-B38B-16313F71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CAF9-65DA-40DF-A8C9-5E2B539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4B6B-C4C9-4DCA-ABF9-6EA31512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47C2-0AA9-43B8-A3B0-7B02843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DF6-8BF9-4934-94E9-D8BE2CEE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FE42-0BEE-412D-87B5-F3E0AB3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6EB8-7453-4EA2-BF39-B42F1AB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6776-3BC2-4025-9B4D-2C46918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DA21-D4D5-496C-87F5-B2252506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B07C-4F75-401F-9C0D-80519EBD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7A2-E183-43C1-B434-5D7EFF34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85D-0F12-4B94-B0D6-D257E761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4F0-CDA0-4E15-9939-13F2EF59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270-9F29-4E42-BE9E-DB086C56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ACC-D849-4658-81C9-5632562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3B6-84FF-4FFD-B800-1338C101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9B5-673F-491E-BEE6-7CBE397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607-0381-408B-8741-9A19D340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AB11-0A43-4257-BA1C-062116ED726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glis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ept. 10-Freshme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o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mework Assign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lly’s t-shirt has the latin phrase cave canem (beware of the dog) and pictures of these three well known dogs a german sheperd an english sheepdog and a beag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cleus:Atom::sun:_________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aker:Oven::________:Kil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ting-Where the action of the story takes pla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od-the author’s attitude towards his writing and the reader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ne-the general atmosphere of a stor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ework Writing assig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our new story the setting is like another charact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r assignment is to write a 2 paragraph story in which your first line is thi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a dark and stormy night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cus on creating set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14:39Z</dcterms:created>
  <dc:creator>VMS</dc:creator>
  <dc:description/>
  <dc:language>en-US</dc:language>
  <cp:lastModifiedBy>Angie McCall</cp:lastModifiedBy>
  <dcterms:modified xsi:type="dcterms:W3CDTF">2012-09-10T20:40:59Z</dcterms:modified>
  <cp:revision>10</cp:revision>
  <dc:subject/>
  <dc:title>English</dc:title>
</cp:coreProperties>
</file>